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9925-96B6-49ED-AE47-7870FC5AC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6CC3-3918-4DE2-917F-06F51044F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8AC6-564E-46B3-9C7D-E1BB706FE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087C-A30B-4209-8D78-F9B385BB3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FFF8-C636-478E-A391-B57E88F23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7DFB-438C-4B74-818C-CF659CFB8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1FB6-176F-47CC-B25D-52372AC98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340A-C43B-481B-B4A6-ABB4620BA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5241-43E2-489A-A641-7B326BE29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6DD9-9870-4318-89BB-FC67E0FBF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3EB5-0202-4C67-AB3B-362EC2FE5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70CC-89B4-4484-8D84-E1D9FD733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97535-55DE-46C0-BB4E-95299D8942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06400" y="2417400"/>
            <a:ext cx="8547120" cy="15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Δομή και Οργάνωση της Ερευνητικής Εργασίας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65120" y="920880"/>
            <a:ext cx="9229680" cy="65721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52240" y="194760"/>
            <a:ext cx="9055080" cy="7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Δομή και Οργάνωση της Ερευνητικής Εργασία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